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A8B-4BE5-45A8-B7B3-8F82519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E62-D4C1-4704-8BED-BA16268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F29-1E21-4384-A907-08DA604B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BD5-49C8-4F49-B282-FF91DED6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9E6-F892-4A52-8F39-6EBB84B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E30-00FC-49DF-9BCC-B1BB6269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0B1-35E3-4731-8AC1-58750C66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B60-C59C-47CE-8FAB-088247C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3BA-2C81-4C21-AAA0-BAAC6F37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CCC-C27D-40D5-A6B5-BD89A3B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182-A0D1-496C-B305-05C2A50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C80-4882-4347-9E23-5E8AC14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073-C552-413B-9594-0BED3C88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C++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Flow &amp; Po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io Mai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1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); // Print value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a; // Decre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while (a &gt;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&lt;initialization list&gt;; &lt;condition&gt;; &lt;post-loop list&gt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itialization list&gt; happens first and on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ndition&gt; tes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ke 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post-loop list&gt; always executed aft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a = 10; a &gt; 0; --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%d\n", a); // Print value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re labeled blocks of code that can be called from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return a valu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take parameters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no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return_type&gt; &lt;function_name&gt;(&lt;parameter_declarations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unction_name&gt;(&lt;arguments&gt;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unction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dd(int a, int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ain entry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unction call with arguments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 = Add(3, 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 by value or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o functions can be pa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a copy of the argument is pa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dress of argument is pa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parameter list is declared in function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and Refere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Foo(int value, int&amp; 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 = 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, b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(a, b); // Function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= %d, b = %d\n”, a,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09320" y="3352680"/>
            <a:ext cx="4058280" cy="459720"/>
            <a:chOff x="2209320" y="3352680"/>
            <a:chExt cx="4058280" cy="459720"/>
          </a:xfrm>
        </p:grpSpPr>
        <p:sp>
          <p:nvSpPr>
            <p:cNvPr id="82" name=""/>
            <p:cNvSpPr/>
            <p:nvPr/>
          </p:nvSpPr>
          <p:spPr>
            <a:xfrm flipH="1">
              <a:off x="2209320" y="3581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30400" y="3352680"/>
              <a:ext cx="1537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retur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5640" y="1676520"/>
            <a:ext cx="3761280" cy="609480"/>
            <a:chOff x="2285640" y="1676520"/>
            <a:chExt cx="3761280" cy="609480"/>
          </a:xfrm>
        </p:grpSpPr>
        <p:sp>
          <p:nvSpPr>
            <p:cNvPr id="85" name=""/>
            <p:cNvSpPr/>
            <p:nvPr/>
          </p:nvSpPr>
          <p:spPr>
            <a:xfrm>
              <a:off x="4732200" y="1676520"/>
              <a:ext cx="1314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y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285640" y="1905120"/>
              <a:ext cx="2438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733560" y="2590920"/>
            <a:ext cx="4381200" cy="535680"/>
            <a:chOff x="3733560" y="2590920"/>
            <a:chExt cx="4381200" cy="535680"/>
          </a:xfrm>
        </p:grpSpPr>
        <p:sp>
          <p:nvSpPr>
            <p:cNvPr id="88" name=""/>
            <p:cNvSpPr/>
            <p:nvPr/>
          </p:nvSpPr>
          <p:spPr>
            <a:xfrm>
              <a:off x="4730760" y="2666880"/>
              <a:ext cx="3384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y reference (only C+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733560" y="2590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a condition can be anything that evaluates to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=0, b=2, c=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) // Will be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) // Will b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 = a) // Will be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= b + c * (4 * a)) // Will b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! Ahhh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ers are variables that contain the address of another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tion synta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ype&gt;* &lt;variable_nam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: address-of operator (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: value-at-address operator (de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with a semi-colon ‘;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ither a single statement, or multiple statements delimited by ‘{’ and ‘}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for NO statement, called a no-op, use ‘{’ and ‘}’ with nothing in betw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clare a regular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pInteger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clare a pointer to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1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‘a’ to contain value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teger = &amp;a; // Set pointer to contain address of ‘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= *pInteg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a == pInte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(&amp;pInteger) == pInteg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pInteger) = 5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ll change value of a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83560" y="3276720"/>
            <a:ext cx="51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7640" y="3276720"/>
            <a:ext cx="84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25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818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3809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488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8620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7960" y="335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80120" y="3809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9040" y="4267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&amp;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pointers and arrays are 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re pointers to a fixed memo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like arrays, pointers can use the [] operator to reference an 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&amp; Array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arr[] = "Hello!"; // Declare a char array (null-termin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pArr = arr; // Pointer to char – same as arr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r[0] = 'F'; // Use [] operator with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pArr = arr; *pArr != '\0'; ++pArr) // Very funky cod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pArr = (*pArr) + 1; // Increment ASCII value b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"arr = %s\n", ar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going to look at the following constructs that change the flow of your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&lt;condition&gt;) // Optional, as many as you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lso optional, can have just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ondition must be within parentheses ‘(‘ and ‘)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 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l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between 0 and 4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a &l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between 5 and 9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greater than 10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lt;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 and is less than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57240" y="2438280"/>
            <a:ext cx="4701960" cy="459720"/>
            <a:chOff x="3657240" y="2438280"/>
            <a:chExt cx="4701960" cy="459720"/>
          </a:xfrm>
        </p:grpSpPr>
        <p:sp>
          <p:nvSpPr>
            <p:cNvPr id="52" name=""/>
            <p:cNvSpPr/>
            <p:nvPr/>
          </p:nvSpPr>
          <p:spPr>
            <a:xfrm flipH="1">
              <a:off x="3657240" y="26668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7600" y="2438280"/>
              <a:ext cx="2181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324480" y="4419720"/>
            <a:ext cx="2059560" cy="1218960"/>
            <a:chOff x="6324480" y="4419720"/>
            <a:chExt cx="2059560" cy="1218960"/>
          </a:xfrm>
        </p:grpSpPr>
        <p:sp>
          <p:nvSpPr>
            <p:cNvPr id="55" name=""/>
            <p:cNvSpPr/>
            <p:nvPr/>
          </p:nvSpPr>
          <p:spPr>
            <a:xfrm>
              <a:off x="6711480" y="4648320"/>
              <a:ext cx="16725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24480" y="4419720"/>
              <a:ext cx="304920" cy="12189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/C++, there are 3 types of loo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to us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tter of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&lt;condition&gt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tes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if it’s true, code block is executed. This repeats until the condition is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Loo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a &gt;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greater than 5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 is less than or equal to 5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&lt;condition&gt;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is executed at least once; condition tes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peats until the condition is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21:06:25Z</dcterms:created>
  <dc:creator>Antonio Maiorano</dc:creator>
  <dc:description/>
  <dc:language>en-US</dc:language>
  <cp:lastModifiedBy>Tony</cp:lastModifiedBy>
  <dcterms:modified xsi:type="dcterms:W3CDTF">2003-08-23T18:08:16Z</dcterms:modified>
  <cp:revision>47</cp:revision>
  <dc:subject/>
  <dc:title>C/C++ Tutorial</dc:title>
</cp:coreProperties>
</file>